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55E-6E3F-4FD7-85AC-B724CADB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BB88-5DC5-42A6-9E09-BB2715D2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E28-8DAD-4E8E-A8CD-332214D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7DDA-3DD5-4E4D-845B-8E4EB7C7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6A1-B196-47E3-9463-9B40F1DC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5563-DFC3-4864-A13B-55638FCD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2BA-4162-4079-AFB5-B1AD8641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3D44-3D77-4ECD-AF3E-9BBFC385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D67-05BF-4D2E-A45F-77829959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11A0-4F2E-46D7-A4E1-E1B5C0B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D20-768B-4BB1-96EE-DAEB3C3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74B9-A42F-4B5B-8555-9844E47B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3523-41B0-4E1B-A92A-D12D3362D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07560"/>
            <a:ext cx="64008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95360" y="209520"/>
            <a:ext cx="8153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5640" y="361800"/>
            <a:ext cx="817272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85640" y="366840"/>
            <a:ext cx="817272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80960" y="352440"/>
            <a:ext cx="818208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0680" y="357120"/>
            <a:ext cx="81626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5360" y="357120"/>
            <a:ext cx="81532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0680" y="352440"/>
            <a:ext cx="8162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95360" y="361800"/>
            <a:ext cx="815328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5640" y="357120"/>
            <a:ext cx="81727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90680" y="361800"/>
            <a:ext cx="816264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640" y="352440"/>
            <a:ext cx="8172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90680" y="343080"/>
            <a:ext cx="8162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6:34:03Z</dcterms:created>
  <dc:creator>微软用户</dc:creator>
  <dc:description/>
  <dc:language>en-US</dc:language>
  <cp:lastModifiedBy>微软用户</cp:lastModifiedBy>
  <dcterms:modified xsi:type="dcterms:W3CDTF">2014-10-10T06:34:35Z</dcterms:modified>
  <cp:revision>1</cp:revision>
  <dc:subject/>
  <dc:title>幻灯片 1</dc:title>
</cp:coreProperties>
</file>