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76E-9A77-4F1F-B9A5-9ECCD3E2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7E0-CA01-4708-9329-1D0D516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C80-6343-4BF1-826B-8AB870F3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F03-AE48-453E-B628-ABF170BC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2EB-E399-4F42-8845-A3CC2AB9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203-62E1-4B07-B6ED-38B289B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712-721B-4390-AEBE-07FC802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70E-A96E-43EC-8506-1364A92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826-777F-447C-AA8F-B816ED27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871-68CF-41AB-8D66-B642668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B9A-D09E-4186-9426-8BCCE84B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406-7D09-491B-A0E8-EAA6BCA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7F75-E152-46AA-BAB6-A9573F09B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360" y="209520"/>
            <a:ext cx="8153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5640" y="361800"/>
            <a:ext cx="817272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5640" y="366840"/>
            <a:ext cx="817272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0680" y="343080"/>
            <a:ext cx="8162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6:34:03Z</dcterms:created>
  <dc:creator>微软用户</dc:creator>
  <dc:description/>
  <dc:language>en-US</dc:language>
  <cp:lastModifiedBy>微软用户</cp:lastModifiedBy>
  <dcterms:modified xsi:type="dcterms:W3CDTF">2014-10-10T06:34:35Z</dcterms:modified>
  <cp:revision>1</cp:revision>
  <dc:subject/>
  <dc:title>幻灯片 1</dc:title>
</cp:coreProperties>
</file>